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DA3F-BB3F-4A59-89FA-1F067576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C264-8536-4239-9341-64F0120C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12CA-3EF5-481F-96A2-0287D15E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F36C-9963-45D7-B836-807DA249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8355-75BE-4A53-957C-0A00F226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53C2-4DD2-4DBF-8256-4032E8BF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BFBA-292D-4ECB-8F18-40DD67C4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AAB-D990-4516-8ACC-AE5469EB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43D4-F367-499B-AAD8-1DE3D61E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2B41-A440-4A17-A713-70D9394A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A2D3-EE5A-4EE8-89B6-A68B4EC5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8E19-BB70-4E6E-9116-9F284EA8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BBAF-C4C7-41B8-9674-182D7DEE1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2514600"/>
            <a:ext cx="5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F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2590920"/>
            <a:ext cx="914400" cy="276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1676520"/>
            <a:ext cx="685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F main 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1752480"/>
            <a:ext cx="1371600" cy="459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er wave transmission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33526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5257440" y="3200400"/>
            <a:ext cx="762120" cy="6094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3314520" y="1485720"/>
            <a:ext cx="1219320" cy="9907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19810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7314840" y="1218960"/>
            <a:ext cx="762120" cy="6094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96080" y="12193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19810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91520" y="9144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7010280" y="198108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350532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35053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1981080"/>
            <a:ext cx="0" cy="152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274320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27432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3276720"/>
            <a:ext cx="1371600" cy="459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er wave transmission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35053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6576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king amp operates Class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22860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amp operates Class-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2:41:15Z</dcterms:created>
  <dc:creator>Paul Rako</dc:creator>
  <dc:description/>
  <dc:language>en-US</dc:language>
  <cp:lastModifiedBy>Paul Rako</cp:lastModifiedBy>
  <dcterms:modified xsi:type="dcterms:W3CDTF">2008-02-27T13:23:07Z</dcterms:modified>
  <cp:revision>5</cp:revision>
  <dc:subject/>
  <dc:title>PowerPoint Presentation</dc:title>
</cp:coreProperties>
</file>