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BF1-0E12-40AF-9834-000DD26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C3E-7D64-43D3-8DD3-2337070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B47-50EB-4437-AA3D-B10ABEDE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EDF-A72F-42C8-B4D1-F8D408F4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9EA-1136-454C-92D8-B8D3565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AC7-538F-491A-AEFB-058BED6A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390-0C1E-4984-BD75-78E62D7D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556-8944-420F-822A-5AC4875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21F-21BE-4913-A34F-4FB8DB2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6E5-8FFD-4439-90AA-4C2B12A1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E83-9683-4AB2-94D8-8CBBBAEE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634-0818-49D7-9FE3-AADC2A8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30F-ED50-43FC-8114-2D9AD644E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362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828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666880"/>
            <a:ext cx="914400" cy="55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1752480"/>
            <a:ext cx="914400" cy="45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-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676520"/>
            <a:ext cx="76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 power 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09680"/>
            <a:ext cx="83844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429000"/>
            <a:ext cx="914400" cy="45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-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190760" y="1676160"/>
            <a:ext cx="762120" cy="6098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067000" y="1485720"/>
            <a:ext cx="1219320" cy="990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9810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2057400"/>
            <a:ext cx="5335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0" cy="152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5146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800" y="365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505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94960" y="342900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lnTo>
                  <a:pt x="144" y="0"/>
                </a:lnTo>
                <a:lnTo>
                  <a:pt x="0" y="144"/>
                </a:lnTo>
                <a:lnTo>
                  <a:pt x="144" y="288"/>
                </a:lnTo>
                <a:lnTo>
                  <a:pt x="480" y="288"/>
                </a:lnTo>
                <a:lnTo>
                  <a:pt x="48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1752480"/>
            <a:ext cx="76176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lnTo>
                  <a:pt x="144" y="0"/>
                </a:lnTo>
                <a:lnTo>
                  <a:pt x="0" y="144"/>
                </a:lnTo>
                <a:lnTo>
                  <a:pt x="144" y="288"/>
                </a:lnTo>
                <a:lnTo>
                  <a:pt x="480" y="288"/>
                </a:lnTo>
                <a:lnTo>
                  <a:pt x="48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971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429000" y="22093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97180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1143000" cy="25909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7314840" y="1218960"/>
            <a:ext cx="762120" cy="609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1219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981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9810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9810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981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52480" y="36576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41:15Z</dcterms:created>
  <dc:creator>Paul Rako</dc:creator>
  <dc:description/>
  <dc:language>en-US</dc:language>
  <cp:lastModifiedBy>Paul Rako</cp:lastModifiedBy>
  <dcterms:modified xsi:type="dcterms:W3CDTF">2008-02-27T12:41:24Z</dcterms:modified>
  <cp:revision>1</cp:revision>
  <dc:subject/>
  <dc:title>PowerPoint Presentation</dc:title>
</cp:coreProperties>
</file>