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71A-741A-40A4-A105-C32FC96A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95C-BEA3-4B3C-BADF-575C205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D97-BAFB-44DB-8A08-F9FF9792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369-9830-4569-8D61-AD3B4C47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5E3-F1C0-4ACA-A31E-C2C3E1B6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EE9-D5E4-4C81-9830-2B2855EC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CE7-43DC-45D4-9505-603EF2A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73C-DE6F-4F1C-BD8D-91445C5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106-8496-43AF-B7EA-68117B6C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2F2-D92C-409C-B9E9-8EDCBD32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8CC-FF54-48BD-9818-9F7C64B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17F-4F85-40BF-9DFA-980F3FB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7D0E-64E0-4005-8754-C568BDB3F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1828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3352320" y="1676520"/>
            <a:ext cx="762120" cy="609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5880" y="198108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19810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781680" y="19810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35053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505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19810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7432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27432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181480" y="1828440"/>
            <a:ext cx="763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257440" y="182844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562360" y="182844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019560" y="198108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410080" y="1828800"/>
            <a:ext cx="1526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14640" y="1828800"/>
            <a:ext cx="1522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867280" y="1828440"/>
            <a:ext cx="15264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352320" y="3200400"/>
            <a:ext cx="762120" cy="609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41:15Z</dcterms:created>
  <dc:creator>Paul Rako</dc:creator>
  <dc:description/>
  <dc:language>en-US</dc:language>
  <cp:lastModifiedBy>Paul Rako</cp:lastModifiedBy>
  <dcterms:modified xsi:type="dcterms:W3CDTF">2008-02-27T13:13:32Z</dcterms:modified>
  <cp:revision>4</cp:revision>
  <dc:subject/>
  <dc:title>PowerPoint Presentation</dc:title>
</cp:coreProperties>
</file>