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357-2DB2-4BF9-8987-ADE16BB4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03A-4AEB-4871-96E3-6A713859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C65-DA7B-4EA2-A622-2C39E1D2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DED-47F8-4728-B0B3-B3FF4B95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3C22-FBCD-4585-9319-ECB8A5E8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2E2-2FA3-4F07-B18B-8D45EC63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8A9-9339-47C6-911D-C36827D7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68C-441D-479B-8FE3-F71A794B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58A-D376-4B89-B971-27AA59D9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5A0-7BE4-4E3F-BF36-5212D24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FCB-F8BC-4DFA-B1AB-0505FD6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5F7-F417-4FD9-985A-8DFB70D0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06BE-E850-4E02-9C46-5DAE5FCB1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29200" y="685800"/>
          <a:ext cx="2914560" cy="22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685800"/>
                    <a:ext cx="291456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523880" y="762120"/>
          <a:ext cx="2362320" cy="20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762120"/>
                    <a:ext cx="23623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 rot="5400000">
            <a:off x="2476080" y="4229280"/>
            <a:ext cx="762120" cy="533160"/>
          </a:xfrm>
          <a:prstGeom prst="triangle">
            <a:avLst>
              <a:gd name="adj" fmla="val 50000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495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495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06400" y="4076640"/>
            <a:ext cx="433440" cy="417600"/>
          </a:xfrm>
          <a:custGeom>
            <a:avLst/>
            <a:gdLst/>
            <a:ahLst/>
            <a:rect l="l" t="t" r="r" b="b"/>
            <a:pathLst>
              <a:path w="273" h="263">
                <a:moveTo>
                  <a:pt x="0" y="134"/>
                </a:moveTo>
                <a:cubicBezTo>
                  <a:pt x="17" y="118"/>
                  <a:pt x="26" y="116"/>
                  <a:pt x="48" y="110"/>
                </a:cubicBezTo>
                <a:cubicBezTo>
                  <a:pt x="71" y="96"/>
                  <a:pt x="62" y="85"/>
                  <a:pt x="72" y="62"/>
                </a:cubicBezTo>
                <a:cubicBezTo>
                  <a:pt x="79" y="46"/>
                  <a:pt x="96" y="34"/>
                  <a:pt x="106" y="19"/>
                </a:cubicBezTo>
                <a:cubicBezTo>
                  <a:pt x="113" y="160"/>
                  <a:pt x="95" y="145"/>
                  <a:pt x="130" y="96"/>
                </a:cubicBezTo>
                <a:cubicBezTo>
                  <a:pt x="132" y="90"/>
                  <a:pt x="140" y="82"/>
                  <a:pt x="135" y="77"/>
                </a:cubicBezTo>
                <a:cubicBezTo>
                  <a:pt x="131" y="73"/>
                  <a:pt x="119" y="91"/>
                  <a:pt x="125" y="91"/>
                </a:cubicBezTo>
                <a:cubicBezTo>
                  <a:pt x="132" y="91"/>
                  <a:pt x="134" y="82"/>
                  <a:pt x="139" y="77"/>
                </a:cubicBezTo>
                <a:cubicBezTo>
                  <a:pt x="147" y="53"/>
                  <a:pt x="142" y="45"/>
                  <a:pt x="168" y="38"/>
                </a:cubicBezTo>
                <a:cubicBezTo>
                  <a:pt x="179" y="23"/>
                  <a:pt x="191" y="15"/>
                  <a:pt x="202" y="0"/>
                </a:cubicBezTo>
                <a:cubicBezTo>
                  <a:pt x="210" y="22"/>
                  <a:pt x="203" y="40"/>
                  <a:pt x="197" y="62"/>
                </a:cubicBezTo>
                <a:cubicBezTo>
                  <a:pt x="200" y="99"/>
                  <a:pt x="204" y="124"/>
                  <a:pt x="211" y="158"/>
                </a:cubicBezTo>
                <a:cubicBezTo>
                  <a:pt x="219" y="263"/>
                  <a:pt x="212" y="225"/>
                  <a:pt x="250" y="187"/>
                </a:cubicBezTo>
                <a:cubicBezTo>
                  <a:pt x="252" y="179"/>
                  <a:pt x="251" y="170"/>
                  <a:pt x="255" y="163"/>
                </a:cubicBezTo>
                <a:cubicBezTo>
                  <a:pt x="273" y="135"/>
                  <a:pt x="269" y="183"/>
                  <a:pt x="269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343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52388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8195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819160" y="5029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50292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3809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arge signal excursion sags power supply to amplif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058080" y="4533840"/>
            <a:ext cx="761760" cy="533520"/>
          </a:xfrm>
          <a:prstGeom prst="triangle">
            <a:avLst>
              <a:gd name="adj" fmla="val 50000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3962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4008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533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400440" y="5334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334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4114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verage signal heats amplifier and changes transfer fun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4267080"/>
            <a:ext cx="753840" cy="446040"/>
          </a:xfrm>
          <a:custGeom>
            <a:avLst/>
            <a:gdLst/>
            <a:ahLst/>
            <a:rect l="l" t="t" r="r" b="b"/>
            <a:pathLst>
              <a:path w="475" h="281">
                <a:moveTo>
                  <a:pt x="0" y="121"/>
                </a:moveTo>
                <a:cubicBezTo>
                  <a:pt x="18" y="95"/>
                  <a:pt x="7" y="26"/>
                  <a:pt x="38" y="15"/>
                </a:cubicBezTo>
                <a:cubicBezTo>
                  <a:pt x="46" y="17"/>
                  <a:pt x="56" y="14"/>
                  <a:pt x="62" y="20"/>
                </a:cubicBezTo>
                <a:cubicBezTo>
                  <a:pt x="68" y="26"/>
                  <a:pt x="60" y="40"/>
                  <a:pt x="67" y="44"/>
                </a:cubicBezTo>
                <a:cubicBezTo>
                  <a:pt x="78" y="51"/>
                  <a:pt x="93" y="47"/>
                  <a:pt x="106" y="49"/>
                </a:cubicBezTo>
                <a:cubicBezTo>
                  <a:pt x="131" y="74"/>
                  <a:pt x="124" y="101"/>
                  <a:pt x="134" y="135"/>
                </a:cubicBezTo>
                <a:cubicBezTo>
                  <a:pt x="136" y="161"/>
                  <a:pt x="133" y="187"/>
                  <a:pt x="139" y="212"/>
                </a:cubicBezTo>
                <a:cubicBezTo>
                  <a:pt x="140" y="219"/>
                  <a:pt x="151" y="220"/>
                  <a:pt x="154" y="226"/>
                </a:cubicBezTo>
                <a:cubicBezTo>
                  <a:pt x="158" y="237"/>
                  <a:pt x="157" y="249"/>
                  <a:pt x="158" y="260"/>
                </a:cubicBezTo>
                <a:cubicBezTo>
                  <a:pt x="278" y="253"/>
                  <a:pt x="213" y="255"/>
                  <a:pt x="278" y="241"/>
                </a:cubicBezTo>
                <a:cubicBezTo>
                  <a:pt x="285" y="0"/>
                  <a:pt x="274" y="135"/>
                  <a:pt x="302" y="29"/>
                </a:cubicBezTo>
                <a:cubicBezTo>
                  <a:pt x="335" y="62"/>
                  <a:pt x="318" y="54"/>
                  <a:pt x="346" y="63"/>
                </a:cubicBezTo>
                <a:cubicBezTo>
                  <a:pt x="376" y="61"/>
                  <a:pt x="407" y="55"/>
                  <a:pt x="437" y="58"/>
                </a:cubicBezTo>
                <a:cubicBezTo>
                  <a:pt x="459" y="60"/>
                  <a:pt x="437" y="125"/>
                  <a:pt x="437" y="125"/>
                </a:cubicBezTo>
                <a:cubicBezTo>
                  <a:pt x="440" y="149"/>
                  <a:pt x="444" y="166"/>
                  <a:pt x="451" y="188"/>
                </a:cubicBezTo>
                <a:cubicBezTo>
                  <a:pt x="453" y="217"/>
                  <a:pt x="448" y="246"/>
                  <a:pt x="456" y="274"/>
                </a:cubicBezTo>
                <a:cubicBezTo>
                  <a:pt x="458" y="281"/>
                  <a:pt x="475" y="272"/>
                  <a:pt x="475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3048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Cli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2971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Transf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5486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Electrical memor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5486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Thermal memor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20:15Z</dcterms:created>
  <dc:creator>Paul Rako</dc:creator>
  <dc:description/>
  <dc:language>en-US</dc:language>
  <cp:lastModifiedBy>Paul Rako</cp:lastModifiedBy>
  <dcterms:modified xsi:type="dcterms:W3CDTF">2008-02-27T12:20:36Z</dcterms:modified>
  <cp:revision>1</cp:revision>
  <dc:subject/>
  <dc:title>PowerPoint Presentation</dc:title>
</cp:coreProperties>
</file>